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161-8EF2-47C8-B320-CB489E99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08C-2F21-4370-BA7A-7AF56918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243-D23E-4066-B79E-50DEC6C5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0B1-D744-43F8-A8DC-76CBDC60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F00-9054-4537-BC19-F07E9762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F41-CFCC-43E4-8984-65E640E4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CB2-A82C-4C49-BCBC-1F1F4A3E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682-469D-46AF-B70B-8C2E85FA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4E3-B17F-4A08-B93F-8FB26AF2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434-4229-4248-AB31-414C2E7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657-A1BE-482F-928E-05D3BB1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EDB-F107-4EC7-991C-9F788D5E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1E8A-9284-40D8-A9DC-2F33CB91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1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2533680" cy="2830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5960" y="4998960"/>
            <a:ext cx="478620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June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view Personnel Evaluation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 SUP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8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3:19:21Z</dcterms:created>
  <dc:creator>Administrator</dc:creator>
  <dc:description/>
  <dc:language>en-US</dc:language>
  <cp:lastModifiedBy>Administrator</cp:lastModifiedBy>
  <dcterms:modified xsi:type="dcterms:W3CDTF">2005-08-15T18:42:43Z</dcterms:modified>
  <cp:revision>8</cp:revision>
  <dc:subject/>
  <dc:title>Slide 1</dc:title>
</cp:coreProperties>
</file>